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4466-F1C2-4322-91EF-B4EFE4255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55F3-7108-41E6-970D-D88AD86C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810C-5684-4673-8470-F14188D12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16C8-ABC7-4336-9971-7A23CEC63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316F-70B1-4AAE-A57F-641CD97B1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7FC1-59BE-4A96-ABEF-DA10B1F2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49B0-F14D-4A90-8B31-554973C5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5DC6-F0B9-4F90-8F0D-16EB61B0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687D-8279-4F75-9B18-F3B8A3B0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82D2-5070-420A-B180-D476C115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41A6-0CBE-4358-A5BC-5B50C7FB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5FF5-6083-4AF7-8F9A-924DFB9A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C2F0-71C1-4753-89F0-46556875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EA78-8ABD-4BC8-A8F1-2AB43229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C43E-CF78-450E-9D6C-E38D63B5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1629-B921-4688-B500-942688AF0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B88F-A6F0-4C7E-A910-F89BF9BF0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E3FC-C090-4066-AE9F-55232D38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39A4-9CBE-43C8-A22F-CC4A2E23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B4A1-F446-46DD-9E8F-E341195A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BA45-BD03-4E6F-B102-6B24E8B3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C8F5-46BC-4DD8-908F-814263B3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D9A0-7486-4583-800F-47F01B70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A2F8-EBF8-42D6-9376-81A53C90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4680" y="4267080"/>
            <a:ext cx="9139320" cy="2590920"/>
            <a:chOff x="4680" y="4267080"/>
            <a:chExt cx="9139320" cy="2590920"/>
          </a:xfrm>
        </p:grpSpPr>
        <p:sp>
          <p:nvSpPr>
            <p:cNvPr id="2" name=""/>
            <p:cNvSpPr/>
            <p:nvPr/>
          </p:nvSpPr>
          <p:spPr>
            <a:xfrm>
              <a:off x="4680" y="4267080"/>
              <a:ext cx="913932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1240" y="5897520"/>
              <a:ext cx="1256400" cy="827280"/>
              <a:chOff x="5601240" y="5897520"/>
              <a:chExt cx="125640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3240" y="6048360"/>
                <a:ext cx="84384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960" y="6095880"/>
                <a:ext cx="71676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88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924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324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720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640" y="6620040"/>
                <a:ext cx="70416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124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480" y="5945040"/>
                <a:ext cx="119016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92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20240" y="5764320"/>
              <a:ext cx="2580120" cy="1084320"/>
              <a:chOff x="2820240" y="5764320"/>
              <a:chExt cx="258012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720" y="6245280"/>
                <a:ext cx="101268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800" y="6283440"/>
                <a:ext cx="86184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640" y="6316560"/>
                <a:ext cx="79488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480" y="6345360"/>
                <a:ext cx="70452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480" y="6357960"/>
                <a:ext cx="65520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920" y="6391440"/>
                <a:ext cx="48564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840" y="6438960"/>
                <a:ext cx="36000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960" y="6504120"/>
                <a:ext cx="14220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4000" y="6067440"/>
                <a:ext cx="71244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920" y="6114960"/>
                <a:ext cx="141516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520" y="6076800"/>
                <a:ext cx="64584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00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3200" y="5850000"/>
                <a:ext cx="132480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4240" y="6116760"/>
                <a:ext cx="27108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32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80280" y="5764320"/>
                <a:ext cx="171036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16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20240" y="5830920"/>
                <a:ext cx="76320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440" y="5334120"/>
              <a:ext cx="2144160" cy="1303200"/>
              <a:chOff x="6553440" y="5334120"/>
              <a:chExt cx="214416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20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440" y="5343480"/>
                <a:ext cx="86328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60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888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680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40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796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52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24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40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188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40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36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268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08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19980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3920" cy="409680"/>
              <a:chOff x="8381880" y="4800600"/>
              <a:chExt cx="67392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768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320" y="4800600"/>
                <a:ext cx="40896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120" y="4867200"/>
                <a:ext cx="9468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360" y="5153040"/>
                <a:ext cx="30456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19680" y="4829040"/>
                <a:ext cx="25524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440" y="4829040"/>
                <a:ext cx="29484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4840" y="4854600"/>
                <a:ext cx="47412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080" y="4897440"/>
                <a:ext cx="360000" cy="209520"/>
                <a:chOff x="8542080" y="4897440"/>
                <a:chExt cx="36000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080" y="4897440"/>
                  <a:ext cx="360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6640" y="4919760"/>
                  <a:ext cx="28836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0920" y="4935600"/>
                  <a:ext cx="19800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3760" y="4960800"/>
                  <a:ext cx="11556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8382-9EED-4C62-898D-C75D8690BC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4680" y="4267080"/>
            <a:ext cx="9139320" cy="2590920"/>
            <a:chOff x="4680" y="4267080"/>
            <a:chExt cx="9139320" cy="2590920"/>
          </a:xfrm>
        </p:grpSpPr>
        <p:sp>
          <p:nvSpPr>
            <p:cNvPr id="107" name=""/>
            <p:cNvSpPr/>
            <p:nvPr/>
          </p:nvSpPr>
          <p:spPr>
            <a:xfrm>
              <a:off x="4680" y="4267080"/>
              <a:ext cx="913932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1240" y="5897520"/>
              <a:ext cx="1256400" cy="827280"/>
              <a:chOff x="5601240" y="5897520"/>
              <a:chExt cx="125640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3240" y="6048360"/>
                <a:ext cx="84384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960" y="6095880"/>
                <a:ext cx="71676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88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924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324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720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640" y="6620040"/>
                <a:ext cx="70416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124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480" y="5945040"/>
                <a:ext cx="119016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92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20240" y="5764320"/>
              <a:ext cx="2580120" cy="1084320"/>
              <a:chOff x="2820240" y="5764320"/>
              <a:chExt cx="258012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720" y="6245280"/>
                <a:ext cx="101268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800" y="6283440"/>
                <a:ext cx="86184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640" y="6316560"/>
                <a:ext cx="79488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480" y="6345360"/>
                <a:ext cx="70452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480" y="6357960"/>
                <a:ext cx="65520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920" y="6391440"/>
                <a:ext cx="48564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840" y="6438960"/>
                <a:ext cx="36000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960" y="6504120"/>
                <a:ext cx="14220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4000" y="6067440"/>
                <a:ext cx="71244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920" y="6114960"/>
                <a:ext cx="141516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520" y="6076800"/>
                <a:ext cx="64584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00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3200" y="5850000"/>
                <a:ext cx="132480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4240" y="6116760"/>
                <a:ext cx="27108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32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80280" y="5764320"/>
                <a:ext cx="171036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16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20240" y="5830920"/>
                <a:ext cx="76320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440" y="5334120"/>
              <a:ext cx="2144160" cy="1303200"/>
              <a:chOff x="6553440" y="5334120"/>
              <a:chExt cx="214416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20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440" y="5343480"/>
                <a:ext cx="86328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60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888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680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40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796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52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24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40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188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40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36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268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08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19980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3920" cy="409680"/>
              <a:chOff x="8381880" y="4800600"/>
              <a:chExt cx="67392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768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320" y="4800600"/>
                <a:ext cx="40896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120" y="4867200"/>
                <a:ext cx="9468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360" y="5153040"/>
                <a:ext cx="30456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19680" y="4829040"/>
                <a:ext cx="25524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440" y="4829040"/>
                <a:ext cx="29484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4840" y="4854600"/>
                <a:ext cx="47412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080" y="4897440"/>
                <a:ext cx="360000" cy="209520"/>
                <a:chOff x="8542080" y="4897440"/>
                <a:chExt cx="36000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080" y="4897440"/>
                  <a:ext cx="360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6640" y="4919760"/>
                  <a:ext cx="28836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0920" y="4935600"/>
                  <a:ext cx="19800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3760" y="4960800"/>
                  <a:ext cx="11556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9A0E-D938-43DF-BFA5-676824C021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Effective 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assroom Managemen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uction Worksh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ch 1,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ed 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sica Persa &amp; Kate Erdo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re Advi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give up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room management is an ongoing proces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consist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tough and then lighten 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rrow” ideas and keep adding to your bag of tricks and soon you’ll have the repertoire of a seasoned teac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orkshop Objectiv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ipants will rate their current classroom management pract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ers will discuss the various facets of classroom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ers will demonstrate and provide strategies and resources to improve classroom management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assroom management causes the most fear and consternation in new teachers, and not so new teachers too!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905120" y="4038480"/>
            <a:ext cx="1496880" cy="19116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5791320" y="3962520"/>
            <a:ext cx="162540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1066680"/>
            <a:ext cx="6629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intaining good order in the classroom is one of the most difficult tasks facing new or experienced teachers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33920"/>
            <a:ext cx="358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638680" y="3886200"/>
            <a:ext cx="198144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85800" y="609480"/>
            <a:ext cx="792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many different practices that can be used for good classroom manageme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553080" y="3048120"/>
            <a:ext cx="1143000" cy="18255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3657600" y="4038480"/>
            <a:ext cx="1143000" cy="1825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1143000" y="3048120"/>
            <a:ext cx="114300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62120" y="685800"/>
            <a:ext cx="7391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assroom management is a skill that not only must be learned, but practiced dail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276720" y="3048120"/>
            <a:ext cx="226692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143000" y="685800"/>
            <a:ext cx="6858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 with all classroom management practices, take into account the age and personality of your class as a group, of you as a teacher and ADAP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342120" y="4024440"/>
            <a:ext cx="2705040" cy="24620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72880" y="4368960"/>
            <a:ext cx="30848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haracteristics of Effectiv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lassroom Manager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vides a safe, secure enviro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nows his/her stud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organize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tablishes and clearly communicates rules, goals and expect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ponds predictably and consistent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dvice from those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o have been there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ild positive relationships of mutual respect with stud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 behavior is much more effective than managing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commit “assumicide” and think your students have the prior knowledge to meet your behavioral expectat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 and practice each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4:19:54Z</dcterms:created>
  <dc:creator>nasd</dc:creator>
  <dc:description/>
  <dc:language>en-US</dc:language>
  <cp:lastModifiedBy>kate erdosy</cp:lastModifiedBy>
  <cp:lastPrinted>2007-02-27T04:10:22Z</cp:lastPrinted>
  <dcterms:modified xsi:type="dcterms:W3CDTF">2009-10-03T19:39:38Z</dcterms:modified>
  <cp:revision>13</cp:revision>
  <dc:subject/>
  <dc:title>Effective  Classroom Manage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23602769</vt:r8>
  </property>
  <property fmtid="{D5CDD505-2E9C-101B-9397-08002B2CF9AE}" pid="3" name="_AuthorEmail">
    <vt:lpwstr>erdosyk@Northampton.k12.pa.us</vt:lpwstr>
  </property>
  <property fmtid="{D5CDD505-2E9C-101B-9397-08002B2CF9AE}" pid="4" name="_AuthorEmailDisplayName">
    <vt:lpwstr>Erdosy, Kathleen - LE</vt:lpwstr>
  </property>
  <property fmtid="{D5CDD505-2E9C-101B-9397-08002B2CF9AE}" pid="5" name="_EmailSubject">
    <vt:lpwstr/>
  </property>
</Properties>
</file>